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CD9-7910-4135-A78B-D528D0FB06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5BA0-A0FB-44C2-BCBA-941E3FB3E6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9FC-7390-4550-B131-2851C11D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5C2-4AAF-41BB-9527-EFD284B0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688-513D-4208-9503-69EE5DC0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BB3-C146-4AF0-B993-57543DB6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943-E06C-4DA8-A9A8-2741B70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0C1-1A5E-42E6-8E24-775DCE58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E87-E293-471F-8F10-B023DA4C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508-2CE2-45E0-B78B-B0A1F4FD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DD5-7861-4B50-9A91-FE90A865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5F5-CCD9-4D70-BE48-7C0E42D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307-602B-4C15-8366-5033F76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8D4-C72E-44DC-B3FE-1E11F2C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9993-1E57-4D6B-909B-6852C7A83A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pyt, podaż i cen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dstawowe funkcje ekonom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o to jest popyt?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pyt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dane dobro (usługę) to ilość tego dobra (usługi), jaką nabywcy są w stanie nabyć po określonej cenie i w określonym czas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pyt jest funkcją wielu zmiennych, najważniejszą z nich jest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ne czynniki to m.in.: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chody nabywców, gusty i preferencje nabywców, ceny dóbr (usług) komplementarnych (uzupełniających się) i substytucyjnych (podob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rostokąt 3"/>
          <p:cNvSpPr/>
          <p:nvPr/>
        </p:nvSpPr>
        <p:spPr>
          <a:xfrm>
            <a:off x="611280" y="595008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Źródło: Begg D., Mikroekonomia, PWE, Warszawa 20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68360" y="1628640"/>
            <a:ext cx="8136000" cy="1944720"/>
          </a:xfrm>
          <a:prstGeom prst="rect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ykres popytu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 założeniu, że na popyt wpływa tylko cena możemy go przedstawić za pomocą poniższego wykre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55640" y="3273480"/>
            <a:ext cx="3648240" cy="2886120"/>
          </a:xfrm>
          <a:prstGeom prst="rect">
            <a:avLst/>
          </a:prstGeom>
          <a:ln w="0">
            <a:noFill/>
          </a:ln>
        </p:spPr>
      </p:pic>
      <p:sp>
        <p:nvSpPr>
          <p:cNvPr id="58" name="pole tekstowe 4"/>
          <p:cNvSpPr/>
          <p:nvPr/>
        </p:nvSpPr>
        <p:spPr>
          <a:xfrm>
            <a:off x="2149560" y="587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il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5"/>
          <p:cNvSpPr/>
          <p:nvPr/>
        </p:nvSpPr>
        <p:spPr>
          <a:xfrm rot="16200000">
            <a:off x="143640" y="40010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6"/>
          <p:cNvSpPr/>
          <p:nvPr/>
        </p:nvSpPr>
        <p:spPr>
          <a:xfrm>
            <a:off x="2024640" y="3809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7"/>
          <p:cNvSpPr/>
          <p:nvPr/>
        </p:nvSpPr>
        <p:spPr>
          <a:xfrm>
            <a:off x="2658600" y="41799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ole tekstowe 8"/>
          <p:cNvSpPr/>
          <p:nvPr/>
        </p:nvSpPr>
        <p:spPr>
          <a:xfrm>
            <a:off x="4587840" y="3798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: przy cenie 70 popyt na daną usługę wynosi 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: przy cenie 50 popyt na daną usługę wynosi 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Arial"/>
              </a:rPr>
              <a:t>Wykres popytu w Pekunii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żeli w grze kupiliście pierwsze badania marketingowe, to wiecie, że funkcja popyt w Pekunii różni się od tej przedstawionej na poprzednim slajdz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czym polega ta różnic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ie  praktyczne wnioski możecie wysnuć jako przedsiębiorcy analizując różnice między tymi funkcjam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dyskutujcie te zagadnienia z nauczyciele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27280" y="162864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6" descr=""/>
          <p:cNvPicPr/>
          <p:nvPr/>
        </p:nvPicPr>
        <p:blipFill>
          <a:blip r:embed="rId2"/>
          <a:stretch/>
        </p:blipFill>
        <p:spPr>
          <a:xfrm>
            <a:off x="4500720" y="2421000"/>
            <a:ext cx="4319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py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413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Elastyczność popytu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 jest to stosunek zmiany zapotrzebowania na dane dobro do względnej zmiany czynnika, który tę zmianę wywołał. Elastyczność popytu informuje o wrażliwości popytu na zmiany czynników, które go kształtuj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ymbol zastępczy zawartości 2"/>
          <p:cNvSpPr/>
          <p:nvPr/>
        </p:nvSpPr>
        <p:spPr>
          <a:xfrm>
            <a:off x="179280" y="2492280"/>
            <a:ext cx="87138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Istnieją trzy kategorie elastyczności popytu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opyt elastyczny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gdy 1% zmiana czynnika powoduje zmianę popytu większą niż 1%. Na przykład, kiedy 1% zmiana ceny powoduje 7% spadek popytu, mówimy że poziom elastyczności cenowej popytu na dany towar jest wysoki. 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rzykład: warzywa i owoce, napoje gazowan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opyt nieelastyczny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gdy 1% zmiana czynnika wywołuje zmianę ceny mniejszą niż 1%. Przykładowo wzrost ceny o 1% wywołuje spadek popytu jedynie o 0,5%. 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rzykład: benzyna, alkohol, przetwory mleczn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opyt o elastyczności jednostkowej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gdy 1% zmiana czynnika powoduje dokładnie 1% zmianę popy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o to jest podaż?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daż danego dobr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usługi) jest to ilość tego dobra (usługi) zaoferowana przez producentów (usługodawców) do sprzedaży po danej cenie w określonym cza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Waszym przypadku jest to ilość oferowanych pokoi hotelowych w danym momen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rostokąt 3"/>
          <p:cNvSpPr/>
          <p:nvPr/>
        </p:nvSpPr>
        <p:spPr>
          <a:xfrm>
            <a:off x="611280" y="57564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Źródło: Begg D., Mikroekonomia, PWE, Warszawa 20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68360" y="1628640"/>
            <a:ext cx="8496360" cy="1368720"/>
          </a:xfrm>
          <a:prstGeom prst="rect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ykres podaż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 założeniu, że na podaż wpływa tylko cena możemy go przedstawić za pomocą poniższego wykre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036960" cy="2398680"/>
          </a:xfrm>
          <a:prstGeom prst="rect">
            <a:avLst/>
          </a:prstGeom>
          <a:ln w="0">
            <a:noFill/>
          </a:ln>
        </p:spPr>
      </p:pic>
      <p:sp>
        <p:nvSpPr>
          <p:cNvPr id="77" name="pole tekstowe 4"/>
          <p:cNvSpPr/>
          <p:nvPr/>
        </p:nvSpPr>
        <p:spPr>
          <a:xfrm rot="16200000">
            <a:off x="-41760" y="4072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5"/>
          <p:cNvSpPr/>
          <p:nvPr/>
        </p:nvSpPr>
        <p:spPr>
          <a:xfrm>
            <a:off x="1908000" y="575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il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6"/>
          <p:cNvSpPr/>
          <p:nvPr/>
        </p:nvSpPr>
        <p:spPr>
          <a:xfrm>
            <a:off x="2426400" y="43988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7"/>
          <p:cNvSpPr/>
          <p:nvPr/>
        </p:nvSpPr>
        <p:spPr>
          <a:xfrm>
            <a:off x="3445200" y="38624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8"/>
          <p:cNvSpPr/>
          <p:nvPr/>
        </p:nvSpPr>
        <p:spPr>
          <a:xfrm>
            <a:off x="4587840" y="3798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: przy cenie 60 podaż danej usługi wynosi 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: przy cenie 100 podaż danej usługi wynosi 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Przychody całkowite i krańcowe</a:t>
            </a:r>
            <a:endParaRPr b="1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rzychód całkowity (Pc)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- to wartość sprzedanych produktów (usług). Oblicza się go mnożąc ilość sprzedanych produktów (usług) przez ich cenę (iloczyn ceny i sprzedanej produkcji/usługi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c = Q * 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wielkość produkcji (ilość sprzedanych dóbr/usłu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cena rynkowa dob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rzychód krańcowy (Pk)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- to przyrost przychodów całkowitych wywołany wzrostem sprzedaży o jednostkę (przyrost całkowity podzielony przez przyrost sprzedanej produkcji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k = ∆Pc/∆Q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rostokąt 3"/>
          <p:cNvSpPr/>
          <p:nvPr/>
        </p:nvSpPr>
        <p:spPr>
          <a:xfrm>
            <a:off x="971640" y="61308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Źródło: </a:t>
            </a:r>
            <a:r>
              <a:rPr b="0" i="1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Samuelson A., Ekonomia 1, PWN, Warszawa 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 </cp:lastModifiedBy>
  <dcterms:modified xsi:type="dcterms:W3CDTF">2014-08-18T09:50:36Z</dcterms:modified>
  <cp:revision>27</cp:revision>
  <dc:subject/>
  <dc:title>Slajd 1</dc:title>
</cp:coreProperties>
</file>